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7DAA-E5D4-4633-8601-F7460A910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FD6D-578B-4CAC-AB30-0BEA65D17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B910-593E-4C5A-84F4-D0C4CDBF0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F656-9933-4ACF-BE81-72DA2D762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11270-1B95-49BC-837F-53A3EBB62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BE7F7-FD0F-4113-98A4-E905F39AB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71192-6360-4739-AD65-72950BCA2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83F97-2F5F-40AE-B775-7F04A61A5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F25DA-011C-4028-A21A-54E779093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18464-DE17-4175-B0AD-2940DCE1F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DA9E9-D602-4F22-AB88-F7352318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4259-26F1-4C60-9530-72E722D34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1409A-563C-4F5A-9686-4621E2BE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D7445-C766-4641-8C5D-B974207C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E68EF-D0EC-470E-9BFB-467671133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D71C7-C581-4F06-866F-7045B9180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00EE4-127F-4FAC-935B-3027C1B3A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526F-A53B-4099-9068-01E9F15D5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C794-8EE4-40E4-929E-111691428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A9CD-A4F1-41AE-88A6-A99FDC923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2EDD-0030-498D-BD45-673E0E116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20B1-AD2E-44E5-9C09-75AFB570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97E5-5732-42B7-93E5-4D3ED5FD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D10B-A886-4599-B561-6A6AB1D3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2A15C-D0C5-4CE3-A7EA-E94E4304BC0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75464-4E06-4E1B-A91E-94FB0D89EBE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Правописание частицы не с глаголами.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Что такое не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К какой части речи относится?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Как пишется не с глаголами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Arial"/>
              </a:rPr>
              <a:t>Творческая работа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Девочек  __  дёргать за косичк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__   драться     на  переменах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На уроках    __ говорить с соседо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__      приходить вовремя на заняти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18627" t="20665" r="-4446" b="16670"/>
          <a:stretch/>
        </p:blipFill>
        <p:spPr>
          <a:xfrm>
            <a:off x="1187280" y="2492280"/>
            <a:ext cx="25927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Arial"/>
              </a:rPr>
              <a:t>А теперь проверим!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Девочек </a:t>
            </a:r>
            <a:r>
              <a:rPr b="0" lang="ru-RU" sz="3200" spc="-1" strike="noStrike">
                <a:solidFill>
                  <a:srgbClr val="666699"/>
                </a:solidFill>
                <a:latin typeface="Arial"/>
              </a:rPr>
              <a:t>не _ дёргать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за косичк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Arial"/>
              </a:rPr>
              <a:t>Не _ драться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на переменах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На уроках </a:t>
            </a:r>
            <a:r>
              <a:rPr b="0" lang="ru-RU" sz="3200" spc="-1" strike="noStrike">
                <a:solidFill>
                  <a:srgbClr val="666699"/>
                </a:solidFill>
                <a:latin typeface="Arial"/>
              </a:rPr>
              <a:t>не _ говорить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с соседом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Приходить вовремя на занят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Вывод: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Частица </a:t>
            </a: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не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придаёт отрицательный смысл слову или  всему предложению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Правило: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Отрицательная частица 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не 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с глаголами пишется раздельно: не _ читал, не _ прыгал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Раздельное написание частицы 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не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 с глаголами 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орфограмма-пробел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Запомни!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Не с глаголами пиши  раздельно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Например: не __ хотел, не __ знал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Только помни об исключениях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Arial"/>
              </a:rPr>
              <a:t>Ненавидел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lang="en-US" sz="3200" spc="-1" strike="noStrike" u="sng">
                <a:solidFill>
                  <a:srgbClr val="003366"/>
                </a:solidFill>
                <a:uFillTx/>
                <a:latin typeface="Arial"/>
              </a:rPr>
              <a:t>негодовал!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ома: С.130, упр.224,225;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           правило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42920" y="2133720"/>
            <a:ext cx="6985080" cy="35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 за урок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9T17:19:27Z</dcterms:created>
  <dc:creator>Оксана</dc:creator>
  <dc:description/>
  <dc:language>en-US</dc:language>
  <cp:lastModifiedBy>Пользователь</cp:lastModifiedBy>
  <dcterms:modified xsi:type="dcterms:W3CDTF">2012-12-03T17:19:06Z</dcterms:modified>
  <cp:revision>8</cp:revision>
  <dc:subject/>
  <dc:title>Открытый урок русского языка</dc:title>
</cp:coreProperties>
</file>